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661-55B0-4515-AFA8-2C4CEAF79BD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2CB-D893-4872-9AA3-5844E806D5B8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0FC-2F81-47E5-B60C-A56AACBDA037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2C3-E9A9-40D4-A4EF-7137A8C47987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41A1-7DA2-49FA-80D7-FFB2C56B1404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09D-13F4-4D11-94A1-F2B2AAED57ED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58C-6A39-4051-B52C-E0C862FC4FED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3CE1-E658-40A2-A0FD-BD5AF06E6F58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t de Iliescu Vlad – cls. a XII-a B CNA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E8D-CD13-404E-8F79-55A42BC0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34A-4DD2-4954-96E2-EF962EE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BCF-088F-4DC6-A800-2914D05E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020-F41B-4A96-97B9-22787C70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2FB-987A-4C14-9BCB-FED38573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886-8213-43F7-B87A-97CAFD68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01-1E37-4EA7-8BBA-C31E602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A9A-61D8-4E69-8344-09F3726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832-E113-4B7C-A497-69FC5FDB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1CB-8E54-46AB-AF73-97210A3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AB7-84C1-4775-964D-A7B66FA7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4FB-A4EA-4D50-8912-24D7FFA8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6DF-F188-48B9-916F-2108171B43EB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n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t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11280" y="25956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oţiunea de algori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11280" y="8359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Def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ț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Prin algoritm se înţelege o metodă de soluţionare a unei clase de probleme, reprezentată de o succesiune finită de operaţii bine definite, numite instrucţiun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98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mul algoritm se considera algoritmul lui Euclid (utilizat pentru determinarea celui mai mare divizor comun a doua numere naturale). Termenul de algoritm poate fi înţeles în sens larg nefiind neapărat legat de rezolvarea unei probleme cu caracter ştiinţific, ci doar pentru a descrie într-o manieră ordonată activităţi care constau în parcurge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ei succesiuni de paşi (cum este de exemplu utilizarea unui telefon public sau a un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ncom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39640" y="39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matematică există o serie de algoritmi: cel al rezolvării ecuaţiei de gradul doi, algoritmul lui Eratostene (pentru generarea numerelor prime mai mici decât o anumita valoare), schema lui Horner (pentru determinarea câtului şi restului împărţirii unui polinom la un binom)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11280" y="515772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luţia problemei se obţine prin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execuţ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ui. Algoritmul poate fi  executat pe o maşină formală (în faza de proiectare şi analiză) sau pe o maşină fizică (calculator) după ce a fost codificat într-un limbaj de program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53964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. Caracteristicile unui algor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95280" y="1484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Generalitat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 algoritm destinat rezolvării unei probleme trebuie să permită obţinerea rezultatului pentru orice date de intrare şi nu numai pentru date particulare de int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280" y="27795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Finitudin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ică se termină după un număr finit de paşi, indiferent cât de mulţ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95280" y="3456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ritat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lucrările algoritmului trebuie specificate riguros, fără ambiguităţi.  În orice etapă a execuţiei algoritmului trebuie să se ştie exact care este următoarea etapă ce va  execut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22200" y="4724280"/>
            <a:ext cx="84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Eficienţă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ii pot fi efectiv utilizaţi doar dacă folosesc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esurse de cal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lum accep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resurse de calcul se înţelege volumul de memorie şi timpul necesar pentru execuţ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9520" y="476280"/>
            <a:ext cx="50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u orice problemă poate  rezolvată algorit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98100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. 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 se determine toţi divizorii să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1341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această problemă se poate scrie un algoritm foarte uş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24000" y="191628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. 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 se determine toţi multiplii să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68360" y="227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această problem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poate scrie un algoritm deoarece nu cunoaştem un criteriu de oprire a operaţii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89440" y="33577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Un algoritm trebuie să funcţioneze pentru orice date de int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400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24000" y="3789360"/>
            <a:ext cx="849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ind date numerel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ă se afişeze maximul dintre 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osibilă soluţie ar f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iar 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iar 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24000" y="580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 nu funcţionează dacă 2 valori sunt identice şi de valoare maxim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8320" y="40464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Un algoritm trebuie sa se opreas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24000" y="836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nsideră următoarea secvenţă de prelucră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1. Atribuie variabile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area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2. Măreste valoarea lu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3. Dac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egal cu 100 atunci se opreşte prelucrarea altfel se reia de la Pas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0920" y="2421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sor de observat ca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u va lua niciodată valoarea 100, deci succesiunea de prelucrări nu se termină niciodată. Din acest motiv nu poate  considerată un algoritm co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30840" y="3716280"/>
            <a:ext cx="59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4. Prelucrările dintr-un algoritm trebuie să fie neambi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sideram următoarea secvenţă de prelucră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1. Atribuie variabile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area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2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măreşte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1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micşorează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3. Dac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 aparţi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-10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] se reia de la Pas 2, altfel se opreşte algoritm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87200" y="620640"/>
            <a:ext cx="75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5. Un algoritm trebuie să se oprească după un interval rezonabil de ti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36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e cere să se determine de câte ori a apărut o cif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în reprezentarea tuturor numerelor naturale mai mici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11280" y="191628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rezolvare simplă ar fi să luăm toate numere mai mici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să vedem de câte ori apare cifr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în fiecare dinte ele. Soluţia e simplă şi pentru valori mici ale lu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 se termină într-un interval de timp rezonabil, dar pentru valori mari timpul de terminare al algoritmului creşte nepermis de m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i realizării unui algori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5280" y="112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itirea cu atenţie a enunţului proble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1773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Identificarea datelor de intrare şi a celor de ieş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5280" y="234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Rezolvarea propriu-zisă a problemei pe cazuri particulare şi reprezentative. În acest moment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e încearcă scrierea programului ci doar determinarea metodei de rezolvare, generalizarea şi înţelegerea aceste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350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Descrierea în limbaj natural a soluţiei proble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că nu sunteţi capabili să descrieţi metoda folosită în limbaj natural e puţin probabil să o puteţi face într-un limbaj de programare care e mai restrictiv decât limbajul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4941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Scrierea programului într-un limbaj de program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95280" y="5589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Testarea programulu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starea se face pe mai multe seturi de date care să acopere cazurile posibile ce pot apă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4:22:27Z</dcterms:created>
  <dc:creator>daniel</dc:creator>
  <dc:description/>
  <dc:language>en-US</dc:language>
  <cp:lastModifiedBy>Vlad</cp:lastModifiedBy>
  <dcterms:modified xsi:type="dcterms:W3CDTF">2011-02-03T09:16:36Z</dcterms:modified>
  <cp:revision>67</cp:revision>
  <dc:subject/>
  <dc:title>Algoritmi</dc:title>
</cp:coreProperties>
</file>